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E15-AF33-47FB-86BE-F9DB82B3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3B9-8D62-4B91-AC33-0E7E6E3C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0FB-FFDE-4DD7-A7C4-E706B539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519-82FA-4C70-8077-D27552E8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5255-4133-4BBF-AE8F-D9FBF848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AFCA-2362-4792-AF1F-17235686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D13D-5D94-46C6-88D4-BE4B7061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A324-A9C9-4292-8220-7AF586A3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8207-5000-46B1-836D-325A64AC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53CE-4AE9-47A6-88F9-1C4FFF22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E03C-B0DA-431F-BB5D-25809DB5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3C7-2605-4290-BB48-4435F12C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2263-F192-41AD-B661-7E9E336B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6E8E-B640-4B78-B70C-CEBBAE5F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DB58-1257-4538-85DD-A31855DD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66C8-92EC-4190-B851-3D0A3F17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7B35-178F-4584-9032-B69D8E5B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B39-74EC-4F31-A0C9-6457419E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A5A-773B-4BF0-80FC-7EAEADF2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0AC-3BE5-4616-A570-55FBE2F4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7D2-94AA-416F-B77D-25AD4DE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EF5-1830-453F-B399-4755B23D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58D-DDC8-4E88-B6C6-904C41FA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E62-7F6A-4169-B3C5-0BB98380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DE10-9368-47D3-A418-DDBB7BE497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86D9-1709-435F-AD3B-4D584CFF11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South Asi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1905120"/>
            <a:ext cx="3962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943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638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057400" y="11430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Comic Sans MS"/>
              </a:rPr>
              <a:t>India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eveloping Open-Market Econom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ajor exports: Petroleum, precio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tones, machinery, iron/ste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mports: Crude oil, fertiliz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itic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Federal Repub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eligions: Hindu, Muslim, Christia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ikh, native/trib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anguages: Hindi, Bengali, Englis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tive/trib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.2 Billion (2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in the Worl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India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ical r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le under Mughal Empire (1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itish colonial rule from Mid-1800’s to 1947 (independ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fluence of East India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fficial end of cas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inued through cultural tra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276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ystem of social stratification and social restriction that divided Indian society into hereditary groups called Jati’s. (4 groups; 1 exclusionary ca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though identified with Hindu society, not specific to the Hindu relig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,500 years of cultural tra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social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581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s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ya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ri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581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s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h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ow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505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st social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asts- outsiders below cast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et swee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oom clea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considered part of social stra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1:32:53Z</dcterms:created>
  <dc:creator>R. Barrios</dc:creator>
  <dc:description/>
  <dc:language>en-US</dc:language>
  <cp:lastModifiedBy>R. Barrios</cp:lastModifiedBy>
  <dcterms:modified xsi:type="dcterms:W3CDTF">2012-04-05T04:08:32Z</dcterms:modified>
  <cp:revision>4</cp:revision>
  <dc:subject/>
  <dc:title>South Asia</dc:title>
</cp:coreProperties>
</file>